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3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50920" y="-360"/>
            <a:ext cx="29336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43520" cy="37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719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5092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7BD9F-5E3E-4865-A3A2-9377F6C2C95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4"/>
          <p:cNvSpPr/>
          <p:nvPr/>
        </p:nvSpPr>
        <p:spPr>
          <a:xfrm>
            <a:off x="385128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316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38480"/>
                <a:tab algn="l" pos="4489560"/>
                <a:tab algn="l" pos="4937040"/>
                <a:tab algn="l" pos="5386320"/>
                <a:tab algn="l" pos="5837400"/>
                <a:tab algn="l" pos="6284880"/>
                <a:tab algn="l" pos="6734160"/>
                <a:tab algn="l" pos="7184880"/>
                <a:tab algn="l" pos="7632720"/>
                <a:tab algn="l" pos="8082000"/>
                <a:tab algn="l" pos="85327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89149-D00D-4EB4-AB2D-E929C2C8BF7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7376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4"/>
          <p:cNvSpPr/>
          <p:nvPr/>
        </p:nvSpPr>
        <p:spPr>
          <a:xfrm>
            <a:off x="385128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316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38480"/>
                <a:tab algn="l" pos="4489560"/>
                <a:tab algn="l" pos="4937040"/>
                <a:tab algn="l" pos="5386320"/>
                <a:tab algn="l" pos="5837400"/>
                <a:tab algn="l" pos="6284880"/>
                <a:tab algn="l" pos="6734160"/>
                <a:tab algn="l" pos="7184880"/>
                <a:tab algn="l" pos="7632720"/>
                <a:tab algn="l" pos="8082000"/>
                <a:tab algn="l" pos="85327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C6218-4ED3-4611-ACD5-F0480A40ADF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7376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4"/>
          <p:cNvSpPr/>
          <p:nvPr/>
        </p:nvSpPr>
        <p:spPr>
          <a:xfrm>
            <a:off x="385128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316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38480"/>
                <a:tab algn="l" pos="4489560"/>
                <a:tab algn="l" pos="4937040"/>
                <a:tab algn="l" pos="5386320"/>
                <a:tab algn="l" pos="5837400"/>
                <a:tab algn="l" pos="6284880"/>
                <a:tab algn="l" pos="6734160"/>
                <a:tab algn="l" pos="7184880"/>
                <a:tab algn="l" pos="7632720"/>
                <a:tab algn="l" pos="8082000"/>
                <a:tab algn="l" pos="85327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47503-04DD-4A04-85C6-66CD4FC6501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7376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4"/>
          <p:cNvSpPr/>
          <p:nvPr/>
        </p:nvSpPr>
        <p:spPr>
          <a:xfrm>
            <a:off x="385128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316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38480"/>
                <a:tab algn="l" pos="4489560"/>
                <a:tab algn="l" pos="4937040"/>
                <a:tab algn="l" pos="5386320"/>
                <a:tab algn="l" pos="5837400"/>
                <a:tab algn="l" pos="6284880"/>
                <a:tab algn="l" pos="6734160"/>
                <a:tab algn="l" pos="7184880"/>
                <a:tab algn="l" pos="7632720"/>
                <a:tab algn="l" pos="8082000"/>
                <a:tab algn="l" pos="85327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BFB32-29AD-4308-B260-0B394BDBA5A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7376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4"/>
          <p:cNvSpPr/>
          <p:nvPr/>
        </p:nvSpPr>
        <p:spPr>
          <a:xfrm>
            <a:off x="385128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316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38480"/>
                <a:tab algn="l" pos="4489560"/>
                <a:tab algn="l" pos="4937040"/>
                <a:tab algn="l" pos="5386320"/>
                <a:tab algn="l" pos="5837400"/>
                <a:tab algn="l" pos="6284880"/>
                <a:tab algn="l" pos="6734160"/>
                <a:tab algn="l" pos="7184880"/>
                <a:tab algn="l" pos="7632720"/>
                <a:tab algn="l" pos="8082000"/>
                <a:tab algn="l" pos="85327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B43BA-1BA8-4D7B-B73C-0D2197F72BA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7376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4"/>
          <p:cNvSpPr/>
          <p:nvPr/>
        </p:nvSpPr>
        <p:spPr>
          <a:xfrm>
            <a:off x="385128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316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38480"/>
                <a:tab algn="l" pos="4489560"/>
                <a:tab algn="l" pos="4937040"/>
                <a:tab algn="l" pos="5386320"/>
                <a:tab algn="l" pos="5837400"/>
                <a:tab algn="l" pos="6284880"/>
                <a:tab algn="l" pos="6734160"/>
                <a:tab algn="l" pos="7184880"/>
                <a:tab algn="l" pos="7632720"/>
                <a:tab algn="l" pos="8082000"/>
                <a:tab algn="l" pos="85327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D830C-D4A8-46FB-9B4C-C95299C1F63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7376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4"/>
          <p:cNvSpPr/>
          <p:nvPr/>
        </p:nvSpPr>
        <p:spPr>
          <a:xfrm>
            <a:off x="385128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316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38480"/>
                <a:tab algn="l" pos="4489560"/>
                <a:tab algn="l" pos="4937040"/>
                <a:tab algn="l" pos="5386320"/>
                <a:tab algn="l" pos="5837400"/>
                <a:tab algn="l" pos="6284880"/>
                <a:tab algn="l" pos="6734160"/>
                <a:tab algn="l" pos="7184880"/>
                <a:tab algn="l" pos="7632720"/>
                <a:tab algn="l" pos="8082000"/>
                <a:tab algn="l" pos="85327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6C5A6-5669-4CA3-8B6B-9092F493590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7376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"/>
          <p:cNvSpPr/>
          <p:nvPr/>
        </p:nvSpPr>
        <p:spPr>
          <a:xfrm>
            <a:off x="385128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316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38480"/>
                <a:tab algn="l" pos="4489560"/>
                <a:tab algn="l" pos="4937040"/>
                <a:tab algn="l" pos="5386320"/>
                <a:tab algn="l" pos="5837400"/>
                <a:tab algn="l" pos="6284880"/>
                <a:tab algn="l" pos="6734160"/>
                <a:tab algn="l" pos="7184880"/>
                <a:tab algn="l" pos="7632720"/>
                <a:tab algn="l" pos="8082000"/>
                <a:tab algn="l" pos="85327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FCB93-73DD-414F-8B0F-B9C1EC166DE7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7376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4"/>
          <p:cNvSpPr/>
          <p:nvPr/>
        </p:nvSpPr>
        <p:spPr>
          <a:xfrm>
            <a:off x="385128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316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38480"/>
                <a:tab algn="l" pos="4489560"/>
                <a:tab algn="l" pos="4937040"/>
                <a:tab algn="l" pos="5386320"/>
                <a:tab algn="l" pos="5837400"/>
                <a:tab algn="l" pos="6284880"/>
                <a:tab algn="l" pos="6734160"/>
                <a:tab algn="l" pos="7184880"/>
                <a:tab algn="l" pos="7632720"/>
                <a:tab algn="l" pos="8082000"/>
                <a:tab algn="l" pos="85327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39CBC-5B74-487F-BA03-F975A860E1F4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7376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4"/>
          <p:cNvSpPr/>
          <p:nvPr/>
        </p:nvSpPr>
        <p:spPr>
          <a:xfrm>
            <a:off x="385128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316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38480"/>
                <a:tab algn="l" pos="4489560"/>
                <a:tab algn="l" pos="4937040"/>
                <a:tab algn="l" pos="5386320"/>
                <a:tab algn="l" pos="5837400"/>
                <a:tab algn="l" pos="6284880"/>
                <a:tab algn="l" pos="6734160"/>
                <a:tab algn="l" pos="7184880"/>
                <a:tab algn="l" pos="7632720"/>
                <a:tab algn="l" pos="8082000"/>
                <a:tab algn="l" pos="85327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5FB69-2915-4525-82E8-CE397F1B6AA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7376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719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egnaposto numero diapositiva 3"/>
          <p:cNvSpPr/>
          <p:nvPr/>
        </p:nvSpPr>
        <p:spPr>
          <a:xfrm>
            <a:off x="385128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4F130-FB77-42C1-9493-6B12158E52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4"/>
          <p:cNvSpPr/>
          <p:nvPr/>
        </p:nvSpPr>
        <p:spPr>
          <a:xfrm>
            <a:off x="385128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4600"/>
                <a:tab algn="l" pos="893880"/>
                <a:tab algn="l" pos="1339920"/>
                <a:tab algn="l" pos="1792440"/>
                <a:tab algn="l" pos="2241720"/>
                <a:tab algn="l" pos="2687760"/>
                <a:tab algn="l" pos="3139920"/>
                <a:tab algn="l" pos="3589200"/>
                <a:tab algn="l" pos="4035600"/>
                <a:tab algn="l" pos="4487760"/>
                <a:tab algn="l" pos="4935600"/>
                <a:tab algn="l" pos="5383080"/>
                <a:tab algn="l" pos="5835600"/>
                <a:tab algn="l" pos="6281640"/>
                <a:tab algn="l" pos="6730920"/>
                <a:tab algn="l" pos="7183440"/>
                <a:tab algn="l" pos="7629480"/>
                <a:tab algn="l" pos="8078760"/>
                <a:tab algn="l" pos="853128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65A52-0B66-4B41-8A5E-4F87450A71A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7376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4"/>
          <p:cNvSpPr/>
          <p:nvPr/>
        </p:nvSpPr>
        <p:spPr>
          <a:xfrm>
            <a:off x="385128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316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38480"/>
                <a:tab algn="l" pos="4489560"/>
                <a:tab algn="l" pos="4937040"/>
                <a:tab algn="l" pos="5386320"/>
                <a:tab algn="l" pos="5837400"/>
                <a:tab algn="l" pos="6284880"/>
                <a:tab algn="l" pos="6734160"/>
                <a:tab algn="l" pos="7184880"/>
                <a:tab algn="l" pos="7632720"/>
                <a:tab algn="l" pos="8082000"/>
                <a:tab algn="l" pos="85327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2B576-A59B-4E38-9202-43B2D95B7E97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7376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4"/>
          <p:cNvSpPr/>
          <p:nvPr/>
        </p:nvSpPr>
        <p:spPr>
          <a:xfrm>
            <a:off x="385128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316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38480"/>
                <a:tab algn="l" pos="4489560"/>
                <a:tab algn="l" pos="4937040"/>
                <a:tab algn="l" pos="5386320"/>
                <a:tab algn="l" pos="5837400"/>
                <a:tab algn="l" pos="6284880"/>
                <a:tab algn="l" pos="6734160"/>
                <a:tab algn="l" pos="7184880"/>
                <a:tab algn="l" pos="7632720"/>
                <a:tab algn="l" pos="8082000"/>
                <a:tab algn="l" pos="85327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B28F4-C706-4E66-A221-557D0FB8744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7376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4"/>
          <p:cNvSpPr/>
          <p:nvPr/>
        </p:nvSpPr>
        <p:spPr>
          <a:xfrm>
            <a:off x="3851280" y="9429840"/>
            <a:ext cx="2933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3160"/>
                <a:tab algn="l" pos="1793880"/>
                <a:tab algn="l" pos="2243160"/>
                <a:tab algn="l" pos="2690640"/>
                <a:tab algn="l" pos="3141720"/>
                <a:tab algn="l" pos="3591000"/>
                <a:tab algn="l" pos="4038480"/>
                <a:tab algn="l" pos="4489560"/>
                <a:tab algn="l" pos="4937040"/>
                <a:tab algn="l" pos="5386320"/>
                <a:tab algn="l" pos="5837400"/>
                <a:tab algn="l" pos="6284880"/>
                <a:tab algn="l" pos="6734160"/>
                <a:tab algn="l" pos="7184880"/>
                <a:tab algn="l" pos="7632720"/>
                <a:tab algn="l" pos="8082000"/>
                <a:tab algn="l" pos="85327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EAB48-E768-4A25-9274-E2910BFB69E7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1133640" y="744480"/>
            <a:ext cx="4530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7376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7AB-021D-429E-9653-CC396A68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9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59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59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D0A-864E-46BD-AF1E-37F61977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9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640" y="198072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640" y="419220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D5F-59C8-4D7F-AACF-C1ADC2EB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9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498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120" y="1980720"/>
            <a:ext cx="2498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2800" y="1980720"/>
            <a:ext cx="2498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498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120" y="4192200"/>
            <a:ext cx="2498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2800" y="4192200"/>
            <a:ext cx="2498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4DE-D9E6-4C91-B17E-9847C175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9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598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21F-B139-4183-9299-035A9249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9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59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599-6EC5-4E68-8D44-847ABF49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9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6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640" y="1980720"/>
            <a:ext cx="3786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7F8B-A2E3-430F-92BC-37C56A44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9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AD3-3E44-4239-AE6E-6D789227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598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6BF-A2D1-4BC4-B31B-4F59B9E3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9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640" y="1980720"/>
            <a:ext cx="3786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0B9-28DA-4FA7-BD6E-0CD4CE77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9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6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640" y="198072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640" y="419220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650-ACF8-4B86-844C-35E3BACC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9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640" y="1980720"/>
            <a:ext cx="37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59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02B-ECD2-45B1-969B-C529D3AD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9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59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AFA823-0E86-44E1-BADB-A0BFB29AF6C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d2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11280" y="2133720"/>
            <a:ext cx="7370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Nanomateriali e legisl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Firenze, 6 Aprile 2017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14" descr="Immagine correlata"/>
          <p:cNvPicPr/>
          <p:nvPr/>
        </p:nvPicPr>
        <p:blipFill>
          <a:blip r:embed="rId1"/>
          <a:stretch/>
        </p:blipFill>
        <p:spPr>
          <a:xfrm>
            <a:off x="7323120" y="3887640"/>
            <a:ext cx="957240" cy="8575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611280" y="3968640"/>
            <a:ext cx="6481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man Old Style"/>
              </a:rPr>
              <a:t>David Pellegrini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- david.pellegrini@isprambiente.it</a:t>
            </a:r>
            <a:r>
              <a:rPr b="1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ISPRA - Istituto superiore per la protezione e la ricerca ambient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man Old Style"/>
              </a:rPr>
              <a:t>Tiberio Daddi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1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tiberio.daddi@sssup.i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Istituto di Management – Scuola Superiore Sant’An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Ergo srl - Spin off Scuola Superiore Sant’An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Immagine 2" descr=""/>
          <p:cNvPicPr/>
          <p:nvPr/>
        </p:nvPicPr>
        <p:blipFill>
          <a:blip r:embed="rId2"/>
          <a:stretch/>
        </p:blipFill>
        <p:spPr>
          <a:xfrm>
            <a:off x="6659640" y="5234040"/>
            <a:ext cx="2314440" cy="1635120"/>
          </a:xfrm>
          <a:prstGeom prst="rect">
            <a:avLst/>
          </a:prstGeom>
          <a:ln w="0">
            <a:noFill/>
          </a:ln>
        </p:spPr>
      </p:pic>
      <p:pic>
        <p:nvPicPr>
          <p:cNvPr id="62" name="Immagine 3" descr="SA_management_logo_ita.tif"/>
          <p:cNvPicPr/>
          <p:nvPr/>
        </p:nvPicPr>
        <p:blipFill>
          <a:blip r:embed="rId3"/>
          <a:stretch/>
        </p:blipFill>
        <p:spPr>
          <a:xfrm>
            <a:off x="7343640" y="5084640"/>
            <a:ext cx="1482840" cy="704880"/>
          </a:xfrm>
          <a:prstGeom prst="rect">
            <a:avLst/>
          </a:prstGeom>
          <a:ln w="0">
            <a:noFill/>
          </a:ln>
        </p:spPr>
      </p:pic>
      <p:sp>
        <p:nvSpPr>
          <p:cNvPr id="63" name="CasellaDiTesto 1"/>
          <p:cNvSpPr/>
          <p:nvPr/>
        </p:nvSpPr>
        <p:spPr>
          <a:xfrm>
            <a:off x="1619280" y="3459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Workshop Progetto Interreg T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500040" y="214200"/>
            <a:ext cx="76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Bookman Old Style"/>
              </a:rPr>
              <a:t>1. Regolamento REACH e nanomateri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06440" y="914400"/>
            <a:ext cx="851688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Il regolamento (CE) n. 1907/2006 REACH 2006 concernente la registrazione, la valutazione, l'autorizzazione e la restrizione delle sostanze chimich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Sebbene i regolamenti REACH e CLP non contengano disposizioni specifiche per i nanomateriali,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essi soddisfano la definizione dei regolamenti sulla sostanza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e, pertanto, si applicano le disposizioni ad essa relativ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Il rapporto fra REACH e NM è una situazione in divenire. Commissione (JRC), ECHA (EU Chemical Agency), Nanomaterial Working Group (NMWG) stanno lavorando sull’integrazione dei due temi e su azioni che permettan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maggiore chiarezza dell’applicazione del regolamento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REACH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gli allegati tecnici del REACH sono in corso di revisione al fine di renderli compatibili con i requisiti per i nanomaterial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la definizione di NM della CE adottata nel 2011 con una Raccomandazione è in corso di revisione, la revisione era attesa per il 2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da chiarire la questione relativa alla registrazione di NM prodotti/importati anche per quantità &lt; 1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000160" y="214200"/>
            <a:ext cx="64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Bookman Old Style"/>
              </a:rPr>
              <a:t>2. Normativa verticale di sett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80880" y="1008000"/>
            <a:ext cx="85838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er i settori in cui vi è un più largo utilizzo di nanomateriali, la nostra Ricerca ha evidenziato come in Europa è stata sviluppata un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regolamentazione specific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compresi regolamenti comunitar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Esempio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ttore alimentare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gulation 1332/2008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on food enzym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gulation 1333/2008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on food additiv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gulation 450/2009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n active and intelligent materials and articles intended to come into contact with food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gulation 10/2011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n plastic materials and articles intended to come into contact with fo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gulation 2283/2015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on novel food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Tuttavia studi recenti hanno evidenziato come anche tale regolamentazion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lascia quesiti irrisolti sull’effettiva efficacia di garantire una piena tutela del consumatore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Sodano et al., 2016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gulating food nanotechnologies in the European Union: Open issues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nd political challenges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rends in Food Science &amp; Technolog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700200" y="856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Bookman Old Style"/>
              </a:rPr>
              <a:t>2. Normativa verticale di settore: uno sguardo internazion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0200" y="914400"/>
          <a:ext cx="8856720" cy="5821200"/>
        </p:xfrm>
        <a:graphic>
          <a:graphicData uri="http://schemas.openxmlformats.org/drawingml/2006/table">
            <a:tbl>
              <a:tblPr/>
              <a:tblGrid>
                <a:gridCol w="863640"/>
                <a:gridCol w="2867040"/>
                <a:gridCol w="2795760"/>
                <a:gridCol w="2330280"/>
              </a:tblGrid>
              <a:tr h="5223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smeti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parecchiature mediche (diagnostiche e terapeutich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dotti Farmaceuti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8248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uro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olamento 1223/200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’ richiesta una pre-market notificatio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 SCENIHR (Scientific Committee on Emerging and Newly Identified Health Risks) che ha pubblicato nel 2015 una Guida che prevede che i produttori debbano assicurare che non ci sia emissione di nanoparticelle durante l’utilizzo dell’apparecchio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 (European Medicines Agency) ha discusso requisiti per diversi prodotti nano medicinali in diversi documenti scientifici. Il controllo dei prodotti è poi legiferato a livello nazionale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27332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pre-market notification 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fety of Nanomaterials in Cosmetic Products’ emessa da FDA (Food and Drug Administra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tti gli apparecchi medici devono ricevere una pre-market authorization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ttavia essa è generale e non esistono richieste specifiche per le apparecchiature contenenti nanomateriali,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DA ha pubblicato una Guida a supporto dei produttori per l’identificazione dei prodotti con nanomateriali regolamentati dall’FDA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48284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i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Giappone, Cina, Corea del su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 oggi in Cina i cosmetici con nanomateriali possono essere utilizzati come gli ordinari. Tuttavia esiste una Linea Guida della SFDA (Chinese State Food and Drug Administration) che prevede futura speciale valutazione del rischio salute e sicurezz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l 2006 le apparecchiature contenenti nanomateriali (es. nano-argento) sono sottoposti a regole più stringenti per ottenere la pre-market approval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iste una pre-market approval della SFDA per le nanomedicine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06020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d America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Brasil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zilian Health Surveillance Agency (ANVISA) dal 2015 impone requisiti di sicurezza per i cosmetici ma non ci sono requisiti specifici per quelli contenenti nanomaterial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entrano nell’ambito della valutazione chimica, fisica e meccanica delle apparecchiature previste da ANVISA. Nessuna regola specifica per apparecchiature con nanomateriali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iste una normativa per l’approvazione di nuovi prodotti. Nessun requisito specifico per quelli contenenti nanomateriali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826920" y="1197000"/>
            <a:ext cx="7848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c00000"/>
                </a:solidFill>
                <a:latin typeface="Bookman Old Style"/>
              </a:rPr>
              <a:t>Molte delle normative vigenti in Europa sono orientate a regolamentare il tema della sicurezza dei prodotti e la tutela della salute dei consumator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3" descr="C:\Users\utente\Desktop\presentaz IPPC Torino\dubbioso.jpg"/>
          <p:cNvPicPr/>
          <p:nvPr/>
        </p:nvPicPr>
        <p:blipFill>
          <a:blip r:embed="rId1"/>
          <a:stretch/>
        </p:blipFill>
        <p:spPr>
          <a:xfrm>
            <a:off x="7790040" y="3500280"/>
            <a:ext cx="906120" cy="2100600"/>
          </a:xfrm>
          <a:prstGeom prst="rect">
            <a:avLst/>
          </a:prstGeom>
          <a:ln w="0">
            <a:noFill/>
          </a:ln>
        </p:spPr>
      </p:pic>
      <p:sp>
        <p:nvSpPr>
          <p:cNvPr id="183" name="Rettangolo 1"/>
          <p:cNvSpPr/>
          <p:nvPr/>
        </p:nvSpPr>
        <p:spPr>
          <a:xfrm>
            <a:off x="324000" y="3645000"/>
            <a:ext cx="6879960" cy="1557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Bookman Old Style"/>
              </a:rPr>
              <a:t>Ma per quanto riguarda la legislazione ambientale per limitare l’impatto dei NM durante le fasi di produzione e smaltimento quale è la situazio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826920" y="189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Bookman Old Style"/>
              </a:rPr>
              <a:t>3. Nanomateriali e legislazione ambient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Immagine 1" descr=""/>
          <p:cNvPicPr/>
          <p:nvPr/>
        </p:nvPicPr>
        <p:blipFill>
          <a:blip r:embed="rId1"/>
          <a:stretch/>
        </p:blipFill>
        <p:spPr>
          <a:xfrm>
            <a:off x="190440" y="1484280"/>
            <a:ext cx="3381480" cy="409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Immagine 1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530600" cy="3457440"/>
          </a:xfrm>
          <a:prstGeom prst="rect">
            <a:avLst/>
          </a:prstGeom>
          <a:ln w="0">
            <a:noFill/>
          </a:ln>
        </p:spPr>
      </p:pic>
      <p:sp>
        <p:nvSpPr>
          <p:cNvPr id="188" name="Freccia a destra 2"/>
          <p:cNvSpPr/>
          <p:nvPr/>
        </p:nvSpPr>
        <p:spPr>
          <a:xfrm>
            <a:off x="3851280" y="3098880"/>
            <a:ext cx="433440" cy="431640"/>
          </a:xfrm>
          <a:prstGeom prst="rightArrow">
            <a:avLst>
              <a:gd name="adj1" fmla="val 50000"/>
              <a:gd name="adj2" fmla="val 50209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Immagine 3" descr="SA_management_logo_ita.tif"/>
          <p:cNvPicPr/>
          <p:nvPr/>
        </p:nvPicPr>
        <p:blipFill>
          <a:blip r:embed="rId1"/>
          <a:stretch/>
        </p:blipFill>
        <p:spPr>
          <a:xfrm>
            <a:off x="500040" y="142920"/>
            <a:ext cx="1503360" cy="7142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8"/>
          <p:cNvSpPr/>
          <p:nvPr/>
        </p:nvSpPr>
        <p:spPr>
          <a:xfrm>
            <a:off x="2000160" y="214200"/>
            <a:ext cx="66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Bookman Old Style"/>
              </a:rPr>
              <a:t>Nanomateriali e legislazione ambientale: alcune conclusioni del re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ttangolo 3"/>
          <p:cNvSpPr/>
          <p:nvPr/>
        </p:nvSpPr>
        <p:spPr>
          <a:xfrm>
            <a:off x="401760" y="4508640"/>
            <a:ext cx="8238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pieces of legislation were found to have some limitations in the coverage of nanomaterials, resulting generally from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lack of knowledg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technical capacity (in particula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nitoring and detection techniqu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nd in some cases from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applicability of existing legal mechanis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uch as concentration threshold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control the presence of pollutants)”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ttangolo 1"/>
          <p:cNvSpPr/>
          <p:nvPr/>
        </p:nvSpPr>
        <p:spPr>
          <a:xfrm>
            <a:off x="401760" y="3220920"/>
            <a:ext cx="823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water legislation 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sidere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imite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providing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r the control of nanomaterials as pollutants in surface waters, groundwater and drinking wa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ttangolo 2"/>
          <p:cNvSpPr/>
          <p:nvPr/>
        </p:nvSpPr>
        <p:spPr>
          <a:xfrm>
            <a:off x="500040" y="1198440"/>
            <a:ext cx="8032680" cy="18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rrently, wastes containing nanomaterial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re treated as any other waste under the Waste Framewor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rective without any specific requirements. There is no definition for nanowastes and therefo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 measures specifically designed to deal with the possible risks associated with nanomaterials in was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”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582480" y="114480"/>
            <a:ext cx="82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Bookman Old Style"/>
              </a:rPr>
              <a:t>Nanomateriali e legislazione ambientale: Direttiva sulle emissioni industria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ttangolo 3"/>
          <p:cNvSpPr/>
          <p:nvPr/>
        </p:nvSpPr>
        <p:spPr>
          <a:xfrm>
            <a:off x="407880" y="1144440"/>
            <a:ext cx="823932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rettiva 75/201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lle Emissioni Industriali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ha sostituito la preceden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rettiva IPP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tegrated Pollution Prevention and Contro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Direttiva copre circ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52.000 impiant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tutta EU afferenti ai principali 27 settori industrial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suo funzionamento si basa sui BREF documenti emessi dalla CE e che riportano l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BAT (Best Available Techniques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ulla base delle quali sono stabiliti i valori limiti nell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utorizzazioni integrate ambiental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Immagine 3" descr=""/>
          <p:cNvPicPr/>
          <p:nvPr/>
        </p:nvPicPr>
        <p:blipFill>
          <a:blip r:embed="rId1"/>
          <a:stretch/>
        </p:blipFill>
        <p:spPr>
          <a:xfrm>
            <a:off x="179280" y="3641760"/>
            <a:ext cx="2062440" cy="2955960"/>
          </a:xfrm>
          <a:prstGeom prst="rect">
            <a:avLst/>
          </a:prstGeom>
          <a:ln w="0">
            <a:noFill/>
          </a:ln>
        </p:spPr>
      </p:pic>
      <p:sp>
        <p:nvSpPr>
          <p:cNvPr id="199" name="CasellaDiTesto 4"/>
          <p:cNvSpPr/>
          <p:nvPr/>
        </p:nvSpPr>
        <p:spPr>
          <a:xfrm>
            <a:off x="3492360" y="3751200"/>
            <a:ext cx="4535640" cy="7038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a Direttiva non fa nessun riferimento ai nanomaterial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l testo o negli allega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ccia a destra 5"/>
          <p:cNvSpPr/>
          <p:nvPr/>
        </p:nvSpPr>
        <p:spPr>
          <a:xfrm>
            <a:off x="2484360" y="537372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CasellaDiTesto 10"/>
          <p:cNvSpPr/>
          <p:nvPr/>
        </p:nvSpPr>
        <p:spPr>
          <a:xfrm>
            <a:off x="3492360" y="4989600"/>
            <a:ext cx="540072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anche all’interno de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BRE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Draft del Gennaio 2017) di settori con largo utilizzo di nanomateriali quali ad esempio l’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imentar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non esistono riferimenti alla gestione dei nanomaterial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scarichi idrici, rifiuti, e altri aspetti ambiental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71640" y="214200"/>
            <a:ext cx="71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Bookman Old Style"/>
              </a:rPr>
              <a:t>4. Stati Membri: esempio Danimar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539640" y="758880"/>
            <a:ext cx="833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In una tale situazione di ritardi normativi o evoluzioni in corso alcuni Paesi Membri stanno avviando autonome iniziative di regolamentazione nazionale. Paesi come Danimarca, Francia, Belgio hanno stabilito registri nazionali per tracciare la presenza di nanomateriali nei prodott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Immagine 1" descr=""/>
          <p:cNvPicPr/>
          <p:nvPr/>
        </p:nvPicPr>
        <p:blipFill>
          <a:blip r:embed="rId1"/>
          <a:stretch/>
        </p:blipFill>
        <p:spPr>
          <a:xfrm>
            <a:off x="463680" y="2435400"/>
            <a:ext cx="8146800" cy="4259160"/>
          </a:xfrm>
          <a:prstGeom prst="rect">
            <a:avLst/>
          </a:prstGeom>
          <a:ln w="0">
            <a:noFill/>
          </a:ln>
        </p:spPr>
      </p:pic>
      <p:sp>
        <p:nvSpPr>
          <p:cNvPr id="206" name="Ovale 2"/>
          <p:cNvSpPr/>
          <p:nvPr/>
        </p:nvSpPr>
        <p:spPr>
          <a:xfrm>
            <a:off x="2838600" y="3500280"/>
            <a:ext cx="5760720" cy="1513080"/>
          </a:xfrm>
          <a:prstGeom prst="ellipse">
            <a:avLst/>
          </a:prstGeom>
          <a:noFill/>
          <a:ln w="19080">
            <a:solidFill>
              <a:srgbClr val="c8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 rot="19720200">
            <a:off x="2097000" y="1437120"/>
            <a:ext cx="44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Bookman Old Style"/>
              </a:rPr>
              <a:t>Grazi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Immagine 7" descr=""/>
          <p:cNvPicPr/>
          <p:nvPr/>
        </p:nvPicPr>
        <p:blipFill>
          <a:blip r:embed="rId1"/>
          <a:stretch/>
        </p:blipFill>
        <p:spPr>
          <a:xfrm>
            <a:off x="6659640" y="4465800"/>
            <a:ext cx="2314440" cy="16365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826920" y="3357720"/>
            <a:ext cx="6553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man Old Style"/>
              </a:rPr>
              <a:t>David Pelelgrini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- david.pellegrini@isprambiente.it</a:t>
            </a:r>
            <a:r>
              <a:rPr b="1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ISP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man Old Style"/>
              </a:rPr>
              <a:t>Tiberio Daddi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1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tiberio.daddi@sssup.i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Istituto di Management – Scuola Superiore Sant’An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Ergo srl - Spin off Scuola Superiore Sant’An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14" descr="Immagine correlata"/>
          <p:cNvPicPr/>
          <p:nvPr/>
        </p:nvPicPr>
        <p:blipFill>
          <a:blip r:embed="rId2"/>
          <a:stretch/>
        </p:blipFill>
        <p:spPr>
          <a:xfrm>
            <a:off x="7645320" y="3213000"/>
            <a:ext cx="959040" cy="857520"/>
          </a:xfrm>
          <a:prstGeom prst="rect">
            <a:avLst/>
          </a:prstGeom>
          <a:ln w="0">
            <a:noFill/>
          </a:ln>
        </p:spPr>
      </p:pic>
      <p:pic>
        <p:nvPicPr>
          <p:cNvPr id="212" name="Immagine 3" descr="SA_management_logo_ita.tif"/>
          <p:cNvPicPr/>
          <p:nvPr/>
        </p:nvPicPr>
        <p:blipFill>
          <a:blip r:embed="rId3"/>
          <a:stretch/>
        </p:blipFill>
        <p:spPr>
          <a:xfrm>
            <a:off x="7383600" y="4267080"/>
            <a:ext cx="148248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asellaDiTesto 3"/>
          <p:cNvSpPr/>
          <p:nvPr/>
        </p:nvSpPr>
        <p:spPr>
          <a:xfrm>
            <a:off x="468360" y="189000"/>
            <a:ext cx="83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Bookman Old Style"/>
                <a:ea typeface="Arial"/>
              </a:rPr>
              <a:t>Nanomateriali – Campi d’applic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Text Box 4"/>
          <p:cNvGrpSpPr/>
          <p:nvPr/>
        </p:nvGrpSpPr>
        <p:grpSpPr>
          <a:xfrm>
            <a:off x="4694400" y="1335240"/>
            <a:ext cx="1950840" cy="834840"/>
            <a:chOff x="4694400" y="1335240"/>
            <a:chExt cx="1950840" cy="834840"/>
          </a:xfrm>
        </p:grpSpPr>
        <p:pic>
          <p:nvPicPr>
            <p:cNvPr id="66" name="Text Box 4" descr=""/>
            <p:cNvPicPr/>
            <p:nvPr/>
          </p:nvPicPr>
          <p:blipFill>
            <a:blip r:embed="rId1"/>
            <a:stretch/>
          </p:blipFill>
          <p:spPr>
            <a:xfrm>
              <a:off x="4694400" y="1335240"/>
              <a:ext cx="19508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780080" y="1380960"/>
              <a:ext cx="18079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Alimentaz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Text Box 7"/>
          <p:cNvGrpSpPr/>
          <p:nvPr/>
        </p:nvGrpSpPr>
        <p:grpSpPr>
          <a:xfrm>
            <a:off x="384120" y="1274760"/>
            <a:ext cx="1920960" cy="1023840"/>
            <a:chOff x="384120" y="1274760"/>
            <a:chExt cx="1920960" cy="1023840"/>
          </a:xfrm>
        </p:grpSpPr>
        <p:pic>
          <p:nvPicPr>
            <p:cNvPr id="69" name="Text Box 7" descr=""/>
            <p:cNvPicPr/>
            <p:nvPr/>
          </p:nvPicPr>
          <p:blipFill>
            <a:blip r:embed="rId2"/>
            <a:stretch/>
          </p:blipFill>
          <p:spPr>
            <a:xfrm>
              <a:off x="384120" y="1274760"/>
              <a:ext cx="19209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68360" y="1322280"/>
              <a:ext cx="1782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edicine e dispositivi medic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Text Box 11"/>
          <p:cNvGrpSpPr/>
          <p:nvPr/>
        </p:nvGrpSpPr>
        <p:grpSpPr>
          <a:xfrm>
            <a:off x="2468520" y="1292400"/>
            <a:ext cx="2084400" cy="1023840"/>
            <a:chOff x="2468520" y="1292400"/>
            <a:chExt cx="2084400" cy="1023840"/>
          </a:xfrm>
        </p:grpSpPr>
        <p:pic>
          <p:nvPicPr>
            <p:cNvPr id="72" name="Text Box 11" descr=""/>
            <p:cNvPicPr/>
            <p:nvPr/>
          </p:nvPicPr>
          <p:blipFill>
            <a:blip r:embed="rId3"/>
            <a:stretch/>
          </p:blipFill>
          <p:spPr>
            <a:xfrm>
              <a:off x="2468520" y="1292400"/>
              <a:ext cx="20844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556000" y="1341360"/>
              <a:ext cx="194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Energia (produzione e stoccaggio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Text Box 14"/>
          <p:cNvGrpSpPr/>
          <p:nvPr/>
        </p:nvGrpSpPr>
        <p:grpSpPr>
          <a:xfrm>
            <a:off x="365040" y="2444760"/>
            <a:ext cx="1940040" cy="957240"/>
            <a:chOff x="365040" y="2444760"/>
            <a:chExt cx="1940040" cy="957240"/>
          </a:xfrm>
        </p:grpSpPr>
        <p:pic>
          <p:nvPicPr>
            <p:cNvPr id="75" name="Text Box 14" descr=""/>
            <p:cNvPicPr/>
            <p:nvPr/>
          </p:nvPicPr>
          <p:blipFill>
            <a:blip r:embed="rId4"/>
            <a:stretch/>
          </p:blipFill>
          <p:spPr>
            <a:xfrm>
              <a:off x="365040" y="2444760"/>
              <a:ext cx="19400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52520" y="2492280"/>
              <a:ext cx="1798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Indistria chimic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Text Box 16"/>
          <p:cNvGrpSpPr/>
          <p:nvPr/>
        </p:nvGrpSpPr>
        <p:grpSpPr>
          <a:xfrm>
            <a:off x="4694400" y="2468520"/>
            <a:ext cx="2035080" cy="835200"/>
            <a:chOff x="4694400" y="2468520"/>
            <a:chExt cx="2035080" cy="835200"/>
          </a:xfrm>
        </p:grpSpPr>
        <p:pic>
          <p:nvPicPr>
            <p:cNvPr id="78" name="Text Box 16" descr=""/>
            <p:cNvPicPr/>
            <p:nvPr/>
          </p:nvPicPr>
          <p:blipFill>
            <a:blip r:embed="rId5"/>
            <a:stretch/>
          </p:blipFill>
          <p:spPr>
            <a:xfrm>
              <a:off x="4694400" y="2468520"/>
              <a:ext cx="20350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780080" y="2516040"/>
              <a:ext cx="18954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Abbigliame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Text Box 18"/>
          <p:cNvGrpSpPr/>
          <p:nvPr/>
        </p:nvGrpSpPr>
        <p:grpSpPr>
          <a:xfrm>
            <a:off x="2444760" y="2468520"/>
            <a:ext cx="2054160" cy="835200"/>
            <a:chOff x="2444760" y="2468520"/>
            <a:chExt cx="2054160" cy="835200"/>
          </a:xfrm>
        </p:grpSpPr>
        <p:pic>
          <p:nvPicPr>
            <p:cNvPr id="81" name="Text Box 18" descr=""/>
            <p:cNvPicPr/>
            <p:nvPr/>
          </p:nvPicPr>
          <p:blipFill>
            <a:blip r:embed="rId6"/>
            <a:stretch/>
          </p:blipFill>
          <p:spPr>
            <a:xfrm>
              <a:off x="2444760" y="2468520"/>
              <a:ext cx="205416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532240" y="2516040"/>
              <a:ext cx="1909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Cosmetic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Text Box 24"/>
          <p:cNvSpPr/>
          <p:nvPr/>
        </p:nvSpPr>
        <p:spPr>
          <a:xfrm>
            <a:off x="539640" y="4076640"/>
            <a:ext cx="100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Text Box 16"/>
          <p:cNvGrpSpPr/>
          <p:nvPr/>
        </p:nvGrpSpPr>
        <p:grpSpPr>
          <a:xfrm>
            <a:off x="6791400" y="1335240"/>
            <a:ext cx="2035080" cy="834840"/>
            <a:chOff x="6791400" y="1335240"/>
            <a:chExt cx="2035080" cy="834840"/>
          </a:xfrm>
        </p:grpSpPr>
        <p:pic>
          <p:nvPicPr>
            <p:cNvPr id="85" name="Text Box 16" descr=""/>
            <p:cNvPicPr/>
            <p:nvPr/>
          </p:nvPicPr>
          <p:blipFill>
            <a:blip r:embed="rId7"/>
            <a:stretch/>
          </p:blipFill>
          <p:spPr>
            <a:xfrm>
              <a:off x="6791400" y="1335240"/>
              <a:ext cx="203508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875640" y="1380960"/>
              <a:ext cx="18954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Elettronic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CasellaDiTesto 32"/>
          <p:cNvSpPr/>
          <p:nvPr/>
        </p:nvSpPr>
        <p:spPr>
          <a:xfrm>
            <a:off x="658800" y="3564000"/>
            <a:ext cx="82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Regolamenti e istituzioni europee che regolano e definiscono i requisiti di sicurezza per i prodotti per la cura persona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istration, evaluation, authorisation and restriction of chemicals (REACH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ulation on classification, labeling and packaging (CLP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ientific Committee on Consumer Safety (SCC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uropean Food Safety Authority (EFSA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uropean Medicines Agency (EMA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Text Box 16"/>
          <p:cNvGrpSpPr/>
          <p:nvPr/>
        </p:nvGrpSpPr>
        <p:grpSpPr>
          <a:xfrm>
            <a:off x="6864480" y="2462040"/>
            <a:ext cx="1962000" cy="835200"/>
            <a:chOff x="6864480" y="2462040"/>
            <a:chExt cx="1962000" cy="835200"/>
          </a:xfrm>
        </p:grpSpPr>
        <p:pic>
          <p:nvPicPr>
            <p:cNvPr id="89" name="Text Box 16" descr=""/>
            <p:cNvPicPr/>
            <p:nvPr/>
          </p:nvPicPr>
          <p:blipFill>
            <a:blip r:embed="rId8"/>
            <a:stretch/>
          </p:blipFill>
          <p:spPr>
            <a:xfrm>
              <a:off x="6864480" y="2462040"/>
              <a:ext cx="19620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948360" y="2511360"/>
              <a:ext cx="18226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Depuraz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ttangolo 11"/>
          <p:cNvSpPr/>
          <p:nvPr/>
        </p:nvSpPr>
        <p:spPr>
          <a:xfrm>
            <a:off x="6826320" y="1908000"/>
            <a:ext cx="2066760" cy="24768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ttangolo 10"/>
          <p:cNvSpPr/>
          <p:nvPr/>
        </p:nvSpPr>
        <p:spPr>
          <a:xfrm>
            <a:off x="4614840" y="1967040"/>
            <a:ext cx="2067120" cy="24778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ttangolo 9"/>
          <p:cNvSpPr/>
          <p:nvPr/>
        </p:nvSpPr>
        <p:spPr>
          <a:xfrm>
            <a:off x="2422440" y="1909800"/>
            <a:ext cx="2067120" cy="2476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ttangolo 1"/>
          <p:cNvSpPr/>
          <p:nvPr/>
        </p:nvSpPr>
        <p:spPr>
          <a:xfrm>
            <a:off x="179280" y="1895400"/>
            <a:ext cx="2067120" cy="2476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Text Box 7"/>
          <p:cNvGrpSpPr/>
          <p:nvPr/>
        </p:nvGrpSpPr>
        <p:grpSpPr>
          <a:xfrm>
            <a:off x="3438360" y="1006560"/>
            <a:ext cx="2224080" cy="536400"/>
            <a:chOff x="3438360" y="1006560"/>
            <a:chExt cx="2224080" cy="536400"/>
          </a:xfrm>
        </p:grpSpPr>
        <p:pic>
          <p:nvPicPr>
            <p:cNvPr id="97" name="Text Box 7" descr=""/>
            <p:cNvPicPr/>
            <p:nvPr/>
          </p:nvPicPr>
          <p:blipFill>
            <a:blip r:embed="rId1"/>
            <a:stretch/>
          </p:blipFill>
          <p:spPr>
            <a:xfrm>
              <a:off x="3438360" y="1006560"/>
              <a:ext cx="22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522600" y="1052640"/>
              <a:ext cx="20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NANOMATERIAL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Text Box 4"/>
          <p:cNvGrpSpPr/>
          <p:nvPr/>
        </p:nvGrpSpPr>
        <p:grpSpPr>
          <a:xfrm>
            <a:off x="4645080" y="1920960"/>
            <a:ext cx="1944720" cy="1077840"/>
            <a:chOff x="4645080" y="1920960"/>
            <a:chExt cx="1944720" cy="1077840"/>
          </a:xfrm>
        </p:grpSpPr>
        <p:pic>
          <p:nvPicPr>
            <p:cNvPr id="100" name="Text Box 4" descr=""/>
            <p:cNvPicPr/>
            <p:nvPr/>
          </p:nvPicPr>
          <p:blipFill>
            <a:blip r:embed="rId2"/>
            <a:stretch/>
          </p:blipFill>
          <p:spPr>
            <a:xfrm>
              <a:off x="4645080" y="1920960"/>
              <a:ext cx="194472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730760" y="1967040"/>
              <a:ext cx="180648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Alimentazione (EFS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Text Box 7"/>
          <p:cNvGrpSpPr/>
          <p:nvPr/>
        </p:nvGrpSpPr>
        <p:grpSpPr>
          <a:xfrm>
            <a:off x="225360" y="1859040"/>
            <a:ext cx="1927440" cy="1030320"/>
            <a:chOff x="225360" y="1859040"/>
            <a:chExt cx="1927440" cy="1030320"/>
          </a:xfrm>
        </p:grpSpPr>
        <p:pic>
          <p:nvPicPr>
            <p:cNvPr id="103" name="Text Box 7" descr=""/>
            <p:cNvPicPr/>
            <p:nvPr/>
          </p:nvPicPr>
          <p:blipFill>
            <a:blip r:embed="rId3"/>
            <a:stretch/>
          </p:blipFill>
          <p:spPr>
            <a:xfrm>
              <a:off x="225360" y="1859040"/>
              <a:ext cx="19274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14280" y="1909800"/>
              <a:ext cx="1784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Prodotti farmaceurici (EM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Text Box 11"/>
          <p:cNvGrpSpPr/>
          <p:nvPr/>
        </p:nvGrpSpPr>
        <p:grpSpPr>
          <a:xfrm>
            <a:off x="2395440" y="1878120"/>
            <a:ext cx="2627280" cy="873000"/>
            <a:chOff x="2395440" y="1878120"/>
            <a:chExt cx="2627280" cy="873000"/>
          </a:xfrm>
        </p:grpSpPr>
        <p:pic>
          <p:nvPicPr>
            <p:cNvPr id="106" name="Text Box 11" descr=""/>
            <p:cNvPicPr/>
            <p:nvPr/>
          </p:nvPicPr>
          <p:blipFill>
            <a:blip r:embed="rId4"/>
            <a:stretch/>
          </p:blipFill>
          <p:spPr>
            <a:xfrm>
              <a:off x="2395440" y="1878120"/>
              <a:ext cx="262728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484360" y="1927080"/>
              <a:ext cx="194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ispositivi medici (EMA)  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Text Box 16"/>
          <p:cNvGrpSpPr/>
          <p:nvPr/>
        </p:nvGrpSpPr>
        <p:grpSpPr>
          <a:xfrm>
            <a:off x="6808680" y="1920960"/>
            <a:ext cx="2036880" cy="772920"/>
            <a:chOff x="6808680" y="1920960"/>
            <a:chExt cx="2036880" cy="772920"/>
          </a:xfrm>
        </p:grpSpPr>
        <p:pic>
          <p:nvPicPr>
            <p:cNvPr id="109" name="Text Box 16" descr=""/>
            <p:cNvPicPr/>
            <p:nvPr/>
          </p:nvPicPr>
          <p:blipFill>
            <a:blip r:embed="rId5"/>
            <a:stretch/>
          </p:blipFill>
          <p:spPr>
            <a:xfrm>
              <a:off x="6808680" y="1920960"/>
              <a:ext cx="203688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897600" y="1967040"/>
              <a:ext cx="189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Cosmetici (SCC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CasellaDiTesto 8"/>
          <p:cNvSpPr/>
          <p:nvPr/>
        </p:nvSpPr>
        <p:spPr>
          <a:xfrm>
            <a:off x="588960" y="237960"/>
            <a:ext cx="83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Bookman Old Style"/>
                <a:ea typeface="Arial"/>
              </a:rPr>
              <a:t>Nanomateriali – Legislazione europ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CasellaDiTesto 12"/>
          <p:cNvSpPr/>
          <p:nvPr/>
        </p:nvSpPr>
        <p:spPr>
          <a:xfrm>
            <a:off x="314280" y="336384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EC 726/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CasellaDiTesto 13"/>
          <p:cNvSpPr/>
          <p:nvPr/>
        </p:nvSpPr>
        <p:spPr>
          <a:xfrm>
            <a:off x="2484360" y="3363840"/>
            <a:ext cx="166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90/385/E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93/42/E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98/79/E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CasellaDiTesto 14"/>
          <p:cNvSpPr/>
          <p:nvPr/>
        </p:nvSpPr>
        <p:spPr>
          <a:xfrm>
            <a:off x="4624560" y="333216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EC 178/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EC 1169/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CasellaDiTesto 15"/>
          <p:cNvSpPr/>
          <p:nvPr/>
        </p:nvSpPr>
        <p:spPr>
          <a:xfrm>
            <a:off x="6921360" y="329256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EC 1223/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CasellaDiTesto 17"/>
          <p:cNvSpPr/>
          <p:nvPr/>
        </p:nvSpPr>
        <p:spPr>
          <a:xfrm>
            <a:off x="179280" y="4371840"/>
            <a:ext cx="20671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VALUTAZIO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ASO PER CA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CasellaDiTesto 18"/>
          <p:cNvSpPr/>
          <p:nvPr/>
        </p:nvSpPr>
        <p:spPr>
          <a:xfrm>
            <a:off x="2433600" y="4371840"/>
            <a:ext cx="20671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BOZZA DI LINEE GU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CasellaDiTesto 19"/>
          <p:cNvSpPr/>
          <p:nvPr/>
        </p:nvSpPr>
        <p:spPr>
          <a:xfrm>
            <a:off x="4624560" y="4386240"/>
            <a:ext cx="20667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LINEE GUIDA ACCETT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CasellaDiTesto 20"/>
          <p:cNvSpPr/>
          <p:nvPr/>
        </p:nvSpPr>
        <p:spPr>
          <a:xfrm>
            <a:off x="6826320" y="4398840"/>
            <a:ext cx="20667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LINEE GUIDA ACCETT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CasellaDiTesto 22"/>
          <p:cNvSpPr/>
          <p:nvPr/>
        </p:nvSpPr>
        <p:spPr>
          <a:xfrm>
            <a:off x="114480" y="5445000"/>
            <a:ext cx="8778600" cy="10087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NESSUNA LEGGE A LIVELLO ITALI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Italian Marine Nano Ecotoxicology working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uppo 1"/>
          <p:cNvGrpSpPr/>
          <p:nvPr/>
        </p:nvGrpSpPr>
        <p:grpSpPr>
          <a:xfrm>
            <a:off x="279360" y="982800"/>
            <a:ext cx="6840720" cy="614160"/>
            <a:chOff x="279360" y="982800"/>
            <a:chExt cx="6840720" cy="614160"/>
          </a:xfrm>
        </p:grpSpPr>
        <p:sp>
          <p:nvSpPr>
            <p:cNvPr id="123" name="AutoShape 3"/>
            <p:cNvSpPr/>
            <p:nvPr/>
          </p:nvSpPr>
          <p:spPr>
            <a:xfrm>
              <a:off x="279360" y="982800"/>
              <a:ext cx="1790640" cy="61416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52" y="0"/>
                  </a:lnTo>
                  <a:lnTo>
                    <a:pt x="21600" y="10800"/>
                  </a:lnTo>
                  <a:lnTo>
                    <a:pt x="1765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Text Box 4"/>
            <p:cNvSpPr/>
            <p:nvPr/>
          </p:nvSpPr>
          <p:spPr>
            <a:xfrm>
              <a:off x="350640" y="1138320"/>
              <a:ext cx="15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Produzion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AutoShape 5"/>
            <p:cNvSpPr/>
            <p:nvPr/>
          </p:nvSpPr>
          <p:spPr>
            <a:xfrm>
              <a:off x="1703160" y="982800"/>
              <a:ext cx="2158920" cy="61272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38" y="0"/>
                  </a:lnTo>
                  <a:lnTo>
                    <a:pt x="21600" y="10800"/>
                  </a:lnTo>
                  <a:lnTo>
                    <a:pt x="17938" y="21600"/>
                  </a:lnTo>
                  <a:lnTo>
                    <a:pt x="0" y="21600"/>
                  </a:lnTo>
                  <a:lnTo>
                    <a:pt x="3662" y="10800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6"/>
            <p:cNvSpPr/>
            <p:nvPr/>
          </p:nvSpPr>
          <p:spPr>
            <a:xfrm>
              <a:off x="1998720" y="1101600"/>
              <a:ext cx="157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Prodotti final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AutoShape 7"/>
            <p:cNvSpPr/>
            <p:nvPr/>
          </p:nvSpPr>
          <p:spPr>
            <a:xfrm>
              <a:off x="3333600" y="982800"/>
              <a:ext cx="2157480" cy="61272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36" y="0"/>
                  </a:lnTo>
                  <a:lnTo>
                    <a:pt x="21600" y="10800"/>
                  </a:lnTo>
                  <a:lnTo>
                    <a:pt x="17936" y="21600"/>
                  </a:lnTo>
                  <a:lnTo>
                    <a:pt x="0" y="21600"/>
                  </a:lnTo>
                  <a:lnTo>
                    <a:pt x="3664" y="1080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AutoShape 8"/>
            <p:cNvSpPr/>
            <p:nvPr/>
          </p:nvSpPr>
          <p:spPr>
            <a:xfrm>
              <a:off x="4962600" y="982800"/>
              <a:ext cx="2157480" cy="61272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36" y="0"/>
                  </a:lnTo>
                  <a:lnTo>
                    <a:pt x="21600" y="10800"/>
                  </a:lnTo>
                  <a:lnTo>
                    <a:pt x="17936" y="21600"/>
                  </a:lnTo>
                  <a:lnTo>
                    <a:pt x="0" y="21600"/>
                  </a:lnTo>
                  <a:lnTo>
                    <a:pt x="3664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3929040" y="111456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Utiliz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5375520" y="1101600"/>
              <a:ext cx="15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Smaltim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Rectangle 5"/>
          <p:cNvSpPr/>
          <p:nvPr/>
        </p:nvSpPr>
        <p:spPr>
          <a:xfrm>
            <a:off x="1106640" y="3598200"/>
            <a:ext cx="5251320" cy="20408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just"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La tossicità è influenzata 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Mobilità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(proprietà fisico-chimiche e vettori ambiental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Trasformazione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(reazioni acido-base, redox, fotodegradazione, formazione di omo ed etero-aggregat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buClr>
                <a:srgbClr val="ffffff"/>
              </a:buClr>
              <a:buFont typeface="Arial"/>
              <a:buChar char="•"/>
              <a:tabLst>
                <a:tab algn="l" pos="2667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Degradabilità e accumulo nell’ambiente e negli organism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7764480" y="588492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uo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25" descr="aria"/>
          <p:cNvPicPr/>
          <p:nvPr/>
        </p:nvPicPr>
        <p:blipFill>
          <a:blip r:embed="rId1"/>
          <a:stretch/>
        </p:blipFill>
        <p:spPr>
          <a:xfrm>
            <a:off x="7308720" y="3456000"/>
            <a:ext cx="1590840" cy="99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4" name="Picture 29" descr="co2_riduzione_suolo_emissioni_gas_serra_anidride_carbonica_assorbita_suolo_1"/>
          <p:cNvPicPr/>
          <p:nvPr/>
        </p:nvPicPr>
        <p:blipFill>
          <a:blip r:embed="rId2"/>
          <a:stretch/>
        </p:blipFill>
        <p:spPr>
          <a:xfrm>
            <a:off x="7331040" y="4764240"/>
            <a:ext cx="1604880" cy="113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5" name="Picture 30" descr="15_giuliano-brandoli_barena-campalto_ve"/>
          <p:cNvPicPr/>
          <p:nvPr/>
        </p:nvPicPr>
        <p:blipFill>
          <a:blip r:embed="rId3"/>
          <a:stretch/>
        </p:blipFill>
        <p:spPr>
          <a:xfrm>
            <a:off x="7338960" y="873000"/>
            <a:ext cx="1587600" cy="99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6" name="Picture 31" descr="Foto_s26_web"/>
          <p:cNvPicPr/>
          <p:nvPr/>
        </p:nvPicPr>
        <p:blipFill>
          <a:blip r:embed="rId4"/>
          <a:stretch/>
        </p:blipFill>
        <p:spPr>
          <a:xfrm>
            <a:off x="7308720" y="2205000"/>
            <a:ext cx="1616040" cy="89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7" name="Text Box 33"/>
          <p:cNvSpPr/>
          <p:nvPr/>
        </p:nvSpPr>
        <p:spPr>
          <a:xfrm>
            <a:off x="7648560" y="3117960"/>
            <a:ext cx="11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edimen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34"/>
          <p:cNvSpPr/>
          <p:nvPr/>
        </p:nvSpPr>
        <p:spPr>
          <a:xfrm>
            <a:off x="7821720" y="18637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cq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7799400" y="444960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egnaposto numero diapositiva 2"/>
          <p:cNvSpPr/>
          <p:nvPr/>
        </p:nvSpPr>
        <p:spPr>
          <a:xfrm>
            <a:off x="7211880" y="644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1CBB28-BE1F-4344-AD3B-777BF6E4E2EB}" type="slidenum">
              <a:rPr b="0" lang="it-IT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ttangolo 1"/>
          <p:cNvSpPr/>
          <p:nvPr/>
        </p:nvSpPr>
        <p:spPr>
          <a:xfrm>
            <a:off x="324000" y="18900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Bookman Old Style"/>
                <a:ea typeface="Arial"/>
              </a:rPr>
              <a:t>Necessità di una legislazione per la verifica dei pericoli ambient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CasellaDiTesto 30"/>
          <p:cNvSpPr/>
          <p:nvPr/>
        </p:nvSpPr>
        <p:spPr>
          <a:xfrm>
            <a:off x="324000" y="1798560"/>
            <a:ext cx="657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ortamento in ambiente acquatico difficile da prevedere con conseguenti complicazioni nello sviluppo di metodologie e normative per la stima dei pericoli ambient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CasellaDiTesto 2"/>
          <p:cNvSpPr/>
          <p:nvPr/>
        </p:nvSpPr>
        <p:spPr>
          <a:xfrm>
            <a:off x="808200" y="165240"/>
            <a:ext cx="746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Bookman Old Style"/>
                <a:ea typeface="Arial"/>
              </a:rPr>
              <a:t>L’alta reattività delle nanoparticelle (NP) non è solo un pericolo ambientale, ma può essere anche una risor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CasellaDiTesto 6"/>
          <p:cNvSpPr/>
          <p:nvPr/>
        </p:nvSpPr>
        <p:spPr>
          <a:xfrm>
            <a:off x="839880" y="915840"/>
            <a:ext cx="74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anoreme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Gruppo 9"/>
          <p:cNvGrpSpPr/>
          <p:nvPr/>
        </p:nvGrpSpPr>
        <p:grpSpPr>
          <a:xfrm>
            <a:off x="2771640" y="1420920"/>
            <a:ext cx="3961080" cy="1258920"/>
            <a:chOff x="2771640" y="1420920"/>
            <a:chExt cx="3961080" cy="1258920"/>
          </a:xfrm>
        </p:grpSpPr>
        <p:sp>
          <p:nvSpPr>
            <p:cNvPr id="147" name="Ovale 1"/>
            <p:cNvSpPr/>
            <p:nvPr/>
          </p:nvSpPr>
          <p:spPr>
            <a:xfrm>
              <a:off x="2771640" y="1500120"/>
              <a:ext cx="1541520" cy="108288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ttangolo 3"/>
            <p:cNvSpPr/>
            <p:nvPr/>
          </p:nvSpPr>
          <p:spPr>
            <a:xfrm>
              <a:off x="4313160" y="1420920"/>
              <a:ext cx="2419560" cy="125892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CasellaDiTesto 4"/>
            <p:cNvSpPr/>
            <p:nvPr/>
          </p:nvSpPr>
          <p:spPr>
            <a:xfrm>
              <a:off x="3153240" y="1857240"/>
              <a:ext cx="77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N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CasellaDiTesto 7"/>
            <p:cNvSpPr/>
            <p:nvPr/>
          </p:nvSpPr>
          <p:spPr>
            <a:xfrm>
              <a:off x="4559400" y="1834920"/>
              <a:ext cx="195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Contamina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CasellaDiTesto 8"/>
          <p:cNvSpPr/>
          <p:nvPr/>
        </p:nvSpPr>
        <p:spPr>
          <a:xfrm>
            <a:off x="839880" y="2766960"/>
            <a:ext cx="755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dsorbimento dei contaminanti alle N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lcune delle possibile opzioni successi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uccessiva rimozione del contaminante tramite gradiente magnetico o gravitazion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ossibilità di fotodegradazione dei contaminati organi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rasformazione e bioreme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In situ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mediation con NP ecocompatibi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CasellaDiTesto 10"/>
          <p:cNvSpPr/>
          <p:nvPr/>
        </p:nvSpPr>
        <p:spPr>
          <a:xfrm>
            <a:off x="225360" y="5219640"/>
            <a:ext cx="878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Times New Roman"/>
              </a:rPr>
              <a:t>IN QUESTO CONTESTO TECNICO-SCIENTIFICO ED APPLICATIVO SI COLLOCA IL RUOLO DI ISPRA, AL FINE DI INDIVIDUARE I COMPARTI AMBIENTALI COINVOLTI E LE MODALITA’ TECNICO OPERATIVE INDISPENSABILI PER LA VALUTAZIONE E LA DEFINIZIONE DEI POSSIBILI RISCHI ECOLOGICI ED AMBIENTALI , UTILI PER UNA IDONEA NORMATIVA DI RIFERIMEN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042920" y="191628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Bookman Old Style"/>
                <a:ea typeface="Arial"/>
              </a:rPr>
              <a:t>Nanomateriali e normativa: primi risultati dalla ricerca condotta nell’ambito del progetto NANOBO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000160" y="214200"/>
            <a:ext cx="61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Bookman Old Style"/>
              </a:rPr>
              <a:t>Analisi normativa: obiet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Diagramma 1" descr=""/>
          <p:cNvPicPr/>
          <p:nvPr/>
        </p:nvPicPr>
        <p:blipFill>
          <a:blip r:embed="rId1"/>
          <a:stretch/>
        </p:blipFill>
        <p:spPr>
          <a:xfrm>
            <a:off x="1390680" y="1042920"/>
            <a:ext cx="7162920" cy="4632480"/>
          </a:xfrm>
          <a:prstGeom prst="rect">
            <a:avLst/>
          </a:prstGeom>
          <a:ln w="0">
            <a:noFill/>
          </a:ln>
        </p:spPr>
      </p:pic>
      <p:sp>
        <p:nvSpPr>
          <p:cNvPr id="159" name="CasellaDiTesto 2"/>
          <p:cNvSpPr/>
          <p:nvPr/>
        </p:nvSpPr>
        <p:spPr>
          <a:xfrm>
            <a:off x="795240" y="6093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etodi: desk research, interviste soggetti rileva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21420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Bookman Old Style"/>
              </a:rPr>
              <a:t>Regolamentazione EU, numerosi atti ma molto «soft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Immagine 1" descr=""/>
          <p:cNvPicPr/>
          <p:nvPr/>
        </p:nvPicPr>
        <p:blipFill>
          <a:blip r:embed="rId1"/>
          <a:stretch/>
        </p:blipFill>
        <p:spPr>
          <a:xfrm>
            <a:off x="611280" y="1320840"/>
            <a:ext cx="8008920" cy="356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Rettangolo 2"/>
          <p:cNvSpPr/>
          <p:nvPr/>
        </p:nvSpPr>
        <p:spPr>
          <a:xfrm>
            <a:off x="263520" y="5589720"/>
            <a:ext cx="86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versi atti normativi ma di tipo «soft», ovvero si denota l’assenza di Direttive, Regolamenti, Decision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ttangolo 6"/>
          <p:cNvSpPr/>
          <p:nvPr/>
        </p:nvSpPr>
        <p:spPr>
          <a:xfrm>
            <a:off x="263520" y="4943520"/>
            <a:ext cx="86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onte: Sodano et al. 2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380880" cy="914400"/>
          </a:xfrm>
          <a:prstGeom prst="rect">
            <a:avLst/>
          </a:prstGeom>
          <a:solidFill>
            <a:srgbClr val="d2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755640" y="2142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Bookman Old Style"/>
              </a:rPr>
              <a:t>Risoluzione del Parlamento Europeo del 24 Aprile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Immagine 1" descr=""/>
          <p:cNvPicPr/>
          <p:nvPr/>
        </p:nvPicPr>
        <p:blipFill>
          <a:blip r:embed="rId1"/>
          <a:stretch/>
        </p:blipFill>
        <p:spPr>
          <a:xfrm>
            <a:off x="663480" y="1255680"/>
            <a:ext cx="8085240" cy="18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8" name="Immagine 2" descr=""/>
          <p:cNvPicPr/>
          <p:nvPr/>
        </p:nvPicPr>
        <p:blipFill>
          <a:blip r:embed="rId2"/>
          <a:stretch/>
        </p:blipFill>
        <p:spPr>
          <a:xfrm>
            <a:off x="1619280" y="3282840"/>
            <a:ext cx="7129440" cy="12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CasellaDiTesto 3"/>
          <p:cNvSpPr/>
          <p:nvPr/>
        </p:nvSpPr>
        <p:spPr>
          <a:xfrm>
            <a:off x="396720" y="4767120"/>
            <a:ext cx="836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Parlamento EU nell’Aprile 2009 invitava la Commissione Europea a rivedere la legislazione EU entro 2 anni al fine di migliorare la regolamentazione dei potenziali impatti dei nanomateriali su salute, sicurezza e amb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denota un ritardo rispetto alle applicazioni dei nanomateriali a livell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dustriale che sicuramente sono state avviate prima del 2009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reccia a destra 4"/>
          <p:cNvSpPr/>
          <p:nvPr/>
        </p:nvSpPr>
        <p:spPr>
          <a:xfrm>
            <a:off x="755640" y="3633840"/>
            <a:ext cx="595440" cy="574560"/>
          </a:xfrm>
          <a:prstGeom prst="rightArrow">
            <a:avLst>
              <a:gd name="adj1" fmla="val 50000"/>
              <a:gd name="adj2" fmla="val 5012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AA</dc:creator>
  <dc:description/>
  <dc:language>en-US</dc:language>
  <cp:lastModifiedBy>Lorenzo Sabatini</cp:lastModifiedBy>
  <cp:lastPrinted>2016-01-21T14:04:15Z</cp:lastPrinted>
  <dcterms:modified xsi:type="dcterms:W3CDTF">2017-04-05T15:33:02Z</dcterms:modified>
  <cp:revision>221</cp:revision>
  <dc:subject/>
  <dc:title>Nessun titolo diapositiva</dc:title>
</cp:coreProperties>
</file>